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10.wmf" ContentType="image/x-wmf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4E61-62DA-4DD1-A8C7-F063B65E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F6AB-FACF-4624-91C3-1F805888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FAD2-4E41-4852-9162-BBE0A1A9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01E-05E3-4495-A253-8BE133E2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307-402D-4512-A78B-5F75261C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57AE-1356-4408-ADD3-853025B5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381-D242-47BC-B076-992B0F7E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800E-7E96-47C5-AF9C-380D68A7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4545-C09B-4358-B4EA-C48AA87C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36E-9271-4F34-8E37-B367FBDA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B532-4B56-41F0-AE9A-DA98CEE5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EB4-FEB5-483B-9093-F18D2353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95D-8435-42E3-BFF3-A75CBC5A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qoob.tv/video/clip_view.asp?id=409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video" Target="file:///tmp/home/.config/libreoffice/4/user/gallery/Scientist" TargetMode="External"/><Relationship Id="rId4" Type="http://schemas.microsoft.com/office/2007/relationships/media" Target="file:///tmp/home/.config/libreoffice/4/user/gallery/Scientist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514600" y="1676520"/>
            <a:ext cx="3886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arthquakes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438280" y="3886200"/>
            <a:ext cx="41436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Jordanna Kalkhof &amp; Ebony Johnson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</a:t>
            </a:r>
            <a:endParaRPr b="0" lang="en-US" sz="24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ANTICLINE / SYNCLINE"/>
          <p:cNvPicPr/>
          <p:nvPr/>
        </p:nvPicPr>
        <p:blipFill>
          <a:blip r:embed="rId1"/>
          <a:stretch/>
        </p:blipFill>
        <p:spPr>
          <a:xfrm>
            <a:off x="380880" y="228600"/>
            <a:ext cx="7905960" cy="333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380880" y="3733920"/>
            <a:ext cx="3886200" cy="2819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n in the diagra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ntic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hen there is a fold in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ds upward like an 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3733920"/>
            <a:ext cx="3886200" cy="28191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seen in the diagra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nc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when there is a fold in roc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binds downward to for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le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6095880" cy="3504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362320" y="4191120"/>
            <a:ext cx="6019560" cy="1981080"/>
          </a:xfrm>
          <a:prstGeom prst="rect">
            <a:avLst/>
          </a:prstGeom>
          <a:solidFill>
            <a:srgbClr val="ff99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s are large areas of land elevated hig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ve sea-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676520" y="1294920"/>
            <a:ext cx="1600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514600"/>
            <a:ext cx="144792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304920"/>
            <a:ext cx="7315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thquakes Are Dangerou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743200"/>
            <a:ext cx="769608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should know what to do if an Earthquake e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ppens so watch this video to see what to do in a funny w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8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static.howstuffworks.com/gif/12-of-the-most-destructive-earthquake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msnucleus.org/membership/html/k-6/pt/plate/5/images/transform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pubs.usgs.gov/gip/earthq1/san_andreas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tudents.j.csbsju.edu/jmmonroe/images/foldedchert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brantacan.co.uk/ShearA2Small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see.leeds.ac.uk/structure/faults/normal/normalicon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cejones/GeoImages/7Structures/NormalFaults/MosaicCanyonNormalFaultSm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images.google.com/imgres?imgurl=http://www2.nature.nps.gov/Geology/usgsnps/deform/reversefault.gif&amp;imgrefurl=http</a:t>
            </a: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cejones/GeoImages/7Structures/NormalFaults/NormalFaultMexicoSml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http://www.hickerphoto.com/data/media/175/colorado_plateau_t3105.jp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Clip 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1870200" cy="268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00200" y="1143000"/>
            <a:ext cx="4267080" cy="1905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orce tha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pe or volum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05520" y="320040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76920" y="5105520"/>
            <a:ext cx="403848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stress between th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es of the Ear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b04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6880" y="5257800"/>
            <a:ext cx="403884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ult is an example of pu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ust making a line or cr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ross a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an Andreas fault"/>
          <p:cNvPicPr/>
          <p:nvPr/>
        </p:nvPicPr>
        <p:blipFill>
          <a:blip r:embed="rId1"/>
          <a:stretch/>
        </p:blipFill>
        <p:spPr>
          <a:xfrm>
            <a:off x="2971800" y="1828800"/>
            <a:ext cx="3429000" cy="3309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380880"/>
            <a:ext cx="792504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ike silly putty, it pulls the crust of the Earth which stretch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middle thinn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2857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3962520"/>
            <a:ext cx="8229600" cy="190476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look at the wall of rock you can see how it is folded over many ti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ction is because of compression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pre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hen rock is squee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l it folds or breaks. Looking at the picture you can tell that it was fol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om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5105160" cy="3701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715000" y="3962520"/>
            <a:ext cx="3200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an exampl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aring because the rock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ling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ing a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696080" cy="1524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hearing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imilar to stress. This is because she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hanges rocks shape but, it also can cause the r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reak or slip a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1080" y="4800600"/>
            <a:ext cx="6934320" cy="1600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you think of faults, you think of giant crack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th’s Crust.  If you do think of that you just describe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rmal Fa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5638680" cy="2954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4920" y="1066680"/>
            <a:ext cx="23619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ho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35232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52680" y="22096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2096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133720" y="1371600"/>
            <a:ext cx="121896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95280" y="762120"/>
            <a:ext cx="6553440" cy="1752480"/>
          </a:xfrm>
          <a:prstGeom prst="cloudCallout">
            <a:avLst>
              <a:gd name="adj1" fmla="val -36773"/>
              <a:gd name="adj2" fmla="val 7001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faults are the same as normal faults but the blocks of rock move in opposite directions. These faults are calle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verse Fa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reverse fault"/>
          <p:cNvPicPr/>
          <p:nvPr/>
        </p:nvPicPr>
        <p:blipFill>
          <a:blip r:embed="rId1"/>
          <a:stretch/>
        </p:blipFill>
        <p:spPr>
          <a:xfrm>
            <a:off x="3657600" y="3200400"/>
            <a:ext cx="5257800" cy="284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5720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124080" cy="3638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4191120"/>
            <a:ext cx="3353040" cy="1828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es above a fa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267080" y="3352680"/>
            <a:ext cx="4476960" cy="28767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609480"/>
            <a:ext cx="5029200" cy="2438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line marks equivalent layer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site side of the fault. The rock betw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ed lines is where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tw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loc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strike-slip fault"/>
          <p:cNvPicPr/>
          <p:nvPr/>
        </p:nvPicPr>
        <p:blipFill>
          <a:blip r:embed="rId1"/>
          <a:stretch/>
        </p:blipFill>
        <p:spPr>
          <a:xfrm>
            <a:off x="2971800" y="3429000"/>
            <a:ext cx="5781600" cy="285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371600" y="838080"/>
            <a:ext cx="5410080" cy="2133720"/>
          </a:xfrm>
          <a:prstGeom prst="cloudCallout">
            <a:avLst>
              <a:gd name="adj1" fmla="val -45421"/>
              <a:gd name="adj2" fmla="val 70013"/>
            </a:avLst>
          </a:prstGeom>
          <a:solidFill>
            <a:srgbClr val="ff00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rike-Slip Faul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cks on either side of the fault slip past e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n opposit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80880" y="3505320"/>
            <a:ext cx="1970280" cy="2658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13:48:04Z</dcterms:created>
  <dc:creator>jordannakalkhof</dc:creator>
  <dc:description/>
  <dc:language>en-US</dc:language>
  <cp:lastModifiedBy>ebonyjohnson</cp:lastModifiedBy>
  <dcterms:modified xsi:type="dcterms:W3CDTF">2008-02-07T14:11:13Z</dcterms:modified>
  <cp:revision>11</cp:revision>
  <dc:subject/>
  <dc:title>Slide 1</dc:title>
</cp:coreProperties>
</file>